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661-396E-4D27-9BB6-B846FB33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482-E88E-4C24-98A0-E601338B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F4F9B-6482-41E2-83CC-CA1A8DAA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BEFE5-B1A2-4E20-8B83-DD121C6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3B652-EBB8-4EFA-887C-C63426E7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A2D63-0884-48EB-B5C0-213B4F5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64BF1-117A-49BD-B75A-BCD06BE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4EBE-FC8B-4E9B-B86C-D20C386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7A8CF-8FA2-43E1-974C-ABCCB711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4C9A6-6F32-4848-93F7-046E41B9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6543F-4BB5-4F52-8E53-0556D870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6C965-33AD-45A4-ABBF-0218EDCC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B7C-02EF-49D6-9EA4-B709E048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1C725-2173-4E80-9C34-7ADC3B0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92F7-2F1E-4C8B-B6D1-DA0CDDC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A33E5-C513-41EA-976F-19C0BEC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05E9E-D6DA-42DD-AD9C-06A1FDF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C8169-71A7-491A-B7D2-F0D8AA6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A231-ABC5-4A19-95F9-0E65734E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525C8-EB1D-4094-96F8-825878F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25139-BA18-4709-969D-A22D2B35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0AC66-D549-41EE-B00A-843BB56E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C1798-BE02-448B-9F14-1D85AD94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1A4-11CB-45EA-BF6C-F25D632F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814DD-3381-4CA4-8681-C9AD6D55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D375E-515B-4D04-A1A2-0D0EB967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38F02-DA0C-4C4A-9E85-E7684457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372B-48B7-4898-B787-30B5B93A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8DBD0-1AC7-4E6A-8AE4-E39FAD56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B36E2-E2B4-4E69-90FC-E108334E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2E53F-FEB4-4D80-BDB6-21C4DB43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8494-1B46-4F45-8B65-C585DDB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E2059-EEC7-4B35-92BB-FF60E0D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508C2-9F48-4F80-8AE8-C60617F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9ED-7EAF-47C3-AD47-6E081C22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2C029-9A2D-41D3-894E-7789F724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C315-9552-425B-B2BE-382C9E07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186C1-5396-4315-9E67-10AF8E63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4B3AB-B4BE-4F7F-9BF3-68CB1AE6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46332-63FE-4B0D-8526-B25E4F58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C94F6-F072-4E89-A6D9-6ABC3E0C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0D080-8335-4534-B22F-B2D7304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0120B-01AF-4020-A1CF-96C7F7B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88826-5A75-41EA-8A01-B200FDF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5C14-E186-4188-AF2C-EC237858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7C02-56AE-438E-9781-3AFB448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3F832-22A6-4416-863A-F2D4C0C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C11C8-F696-4E60-9730-6D42A6C5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868E0-265B-4A85-B22C-1CD16802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78F2B-A596-4ADE-9591-673B01DC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66D12-3F4F-44A0-8217-0FF7329A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8EF1C-6A6E-4E3C-9F32-638E9116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99E9C-328D-49E8-A29E-B5FFB1B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5B450-3072-4A23-9386-578BA4B1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16E58-B512-47CC-9E12-85955BA7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F8D4A-F835-44D4-94CE-3C79E937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5AA7-1EA7-498B-A2A7-99EDE52A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EC3C5-5281-49D5-B1C3-8EE821BF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5E28C-EC34-4728-9125-0302A8D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B7BCE-2CA2-42FA-BC5D-E90880B4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FCF54-1D1C-4828-8FD4-6788CD0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84960-0021-4E2A-B6D0-53AAFFB6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CC9DF-483B-4940-AE2C-5FD1C14C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798A4-B0B0-4BED-812C-BC98F74F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72CC7-8E52-449D-BE1C-934BB723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BCA8B-7DCA-4114-B963-D1504D12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C0DB6-F7FA-4C1A-9B38-F64DAA7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4E52-F3B6-4F85-963D-7B63BE0F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1843B-ED9A-4EC6-BF26-3DFB5A8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EC491-B60E-403E-BB42-8B92FA9D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1D794-0680-443A-9D69-9BCA79B3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61F3D-8190-4C91-9A1A-9A28EFE0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EB21A-4BD0-4373-8619-13317514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7FD48-EE50-4518-B3C1-52914C8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F5063-319B-4E13-B8FE-28ED18EE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D87B5-9B3A-44EE-83E8-D44493BA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EF130-238A-4CB6-90A8-D16AFA86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1E8AA-D609-48B6-B31A-AB9329DF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4998-A327-42CA-B7AE-E4637D2A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5CB8A-319E-46DF-A265-EEC70BE6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B96F6-CBD5-4998-BB58-4E49530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0A3A6-E6CA-472E-B8AD-CCFFD76A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7E88C-9558-4391-B379-3E78431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F8B57-EE21-49AA-90F5-76DE6A41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C279F-304B-457F-8BFF-6BC4843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A105D-6397-45C4-8B6B-D79C955C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1EA96-4599-4861-A4D8-F9C299F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0885A-0541-480C-9ED4-2870B3A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C5C10-5453-478E-AD00-AF4454E4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11DC-0F6C-4678-A2DE-8A82AD13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38FE9-17FE-44F5-A100-73A19996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6445B-4BF8-4325-8AEC-BC723D26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3DD70-73CA-480E-9383-90E6B2B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55958-EB05-45D6-B7F0-E049D20C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C4860-413F-4E66-B558-3772731C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42B31-0918-4EC1-AA63-E42C8E1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1A85B-0EAD-445D-ADF8-EF4D65F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937FA-F25C-42D0-B2B6-48DBF05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65CF3-573C-4877-817D-E047D0F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E1ECD-8F51-4CA8-95C7-F5AD5301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1875-006D-4C3C-B9A2-9905AD0B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E1B6C-9AA8-4A9F-BE58-4C6D79D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8E66B-78A5-4D59-8FEF-33771A3F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E34B5-CE57-4272-911F-F7DFE1C8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0D7C0-5100-4444-AABA-867BF605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07C54-990D-4EDA-A911-4D859350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50F8A-FAF6-4869-A649-A0FCBB3B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1C14A-8A6D-4715-B1F2-70A1F23B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AB61E-1D55-4E9D-A39C-FF494C23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20601-45F3-4DD5-935B-7F2FBC6E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C790A-96AA-4CA9-9F5C-F8A649B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61A-E957-4DEE-814E-0E5A068E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A6ED-431D-458C-B34F-3CCB669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C72E4-E3CF-479B-843E-54916EE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82CDF-9984-40CC-AAF1-0EA61F7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2F0FD-7B2D-48FE-B59E-04E099DB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A3993-CF41-41FA-99CF-159F673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2A902-0A2B-4821-AF48-5ADDC5F2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FB049-8AF6-43E2-B22E-694BCDB4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46886-79B0-4B1C-B1A1-7D73D2F9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19E7D-7617-49D7-93BA-75448EBC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C228D-A90E-4B8F-9996-84D66DA8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D41DC-CABA-40AB-A5F7-9F6C256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157-1028-4DC7-BE51-F39952A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C9000-58C4-4D9B-8AAC-FD38D06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0232E-A160-40AA-8643-FB3D1C66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9D583-F102-4FE2-B011-B4DCB2E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C1C62-CBA7-4FE3-9233-674CC08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577E7-4723-4C2E-8EE3-5C24AA4F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45913-CCED-452E-B1CA-69BB1724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4E492-2665-4EF7-8E83-F15EFD07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E8421-4D2D-4104-A72D-B058C380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1BECE-E075-45B0-BD1E-6A085D0F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8D66E-D4F0-421D-B6C5-26A7135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587-05D3-4F83-BAD5-4140077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F89C0B-44C9-4EF2-969D-F423A2D8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745FD-A826-4E7A-A286-05FA6171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FEFD6-F5C5-4277-9696-8318ED25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D3931-9F2D-408C-89A5-0E8C2A91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07B24-EC66-4A1E-BB93-B0D64CE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8E345-D708-4A62-98B5-6EC3D9E0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B10FC-C801-450B-99E1-CCAE417B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DC4D9-B548-4016-88DD-2F59A2A1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AAA4E-E98F-451D-A979-45F61F08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697CD-CEE1-4224-83E3-ADC3CE3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2115-6B6D-4793-8EC9-FE05A47B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5CA90-701C-44B2-9A98-3D48D0F4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E923C-EC12-41C2-8B49-E17873A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572DD-7C43-4992-A632-02A9F253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D7248-E502-4DE3-A709-905D77E9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27E010-FBF5-41FD-8427-2C5EB7DD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1EF3B-1A6A-4753-8EC7-4EB39E2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FDA0F-78C5-4DA7-9417-BB85BA3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D9879-300F-4A82-827F-4119C7C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EA0C5-563A-4EC0-8E05-CDE0713C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184BEB-52A4-4FDB-AA09-1114B6F2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FBC7-77B3-47AE-8DBB-13A51DF0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45836-FCB8-4A8D-A76B-0CC94DFF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2E97E4-C95E-475F-A298-27434895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34DAD6-23A9-40AC-A9D8-24DE67AA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57DF7-97E6-4FF4-B1FC-2891ACEA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3457A-6AFF-455C-9473-E824326D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FA79E-487D-4F48-B498-85F7328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3533FC-8243-47A5-92C6-2BB0E9B9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84997-C44D-4041-A8BB-B6718E18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A6F9F-D8CF-4509-8478-49409355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3B377-F357-443B-96A6-EE9A072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1C81-26D6-4DE0-957F-BC2E06EA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89378-02F9-4303-9D21-3C75B51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4D6F9B-B358-495C-B2CF-7B114611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DADDB-5A4D-4D70-A58E-DC951CFE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A674-F480-4E16-B671-4F67108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C105-F100-4652-857D-D0AC7F9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FC8E-DC16-49A3-9CFB-CFA17D78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F895-592A-41CF-823A-8FBB91A0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9FA-645E-4B52-A35B-8C7CB972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7910-93AF-4A79-BAB1-012FA091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21FD-8D98-4EB6-8C22-CEAC995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D43F-929A-4071-A25D-9C7996A7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8383-E002-4FDA-A86F-83A5DC3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86BD-4217-4A41-8A7E-26A78BE3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CB75-92B0-49F2-82DB-04F91CF6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D4D0-BEF0-4B4A-9EA9-CCAA171B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0D4E-DE45-4EA0-93B8-E30DF3A3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7350-10E7-4472-BABD-32959645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A6BC-2E25-40E8-A725-ED674B12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A0C-8BA1-4EF2-A2DA-0495A7E7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23F3-CE15-420F-B2DA-BF12041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2536-D99B-4017-BF0C-3958D75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69385-D6F9-4EBA-A085-47D9E74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0494-E91A-46AE-9773-CCD8BEE7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AFBE-7256-4E29-83A8-4FC2CEB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09BD-BD03-4093-AB4D-CC38E4C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7BBB-6627-4801-A33B-5A05DAB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C283-90F6-4FC3-9CC6-15BA22AA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C297-16C2-4B82-A7D5-AFC52A2F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7452-3E6C-4B44-AAE3-D412AF38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09F-6BB4-48E6-A88C-46F6AD9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8D07-C429-4DB1-974F-71B567CF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6AFF-D2A5-41FD-B1B6-9022540A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69C6A-BA5F-4FB2-B208-9297DD6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DECDC-141A-4B16-AA37-6BC6987B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89946-DDA5-4161-AF3D-06006ACD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1E97-2D9A-4AE1-9CC0-DDEB669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47EF3-C8EA-4ED8-B8DD-1D75635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E36E-3507-468C-ADCF-F71F6EE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51E2F-60EA-4527-B633-1DD74548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32B74-F008-435B-A785-E02F65C7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D6C-9CD5-46EF-9617-11EA2DAD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B112F-F5B2-4098-8B04-85B50891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B8387-230E-4E00-A523-1C394354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B29F2-7FE9-41CC-A844-75B3780D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01A61-F3A8-43F2-A57F-1403D098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179DA-BC80-40F0-9829-743F014F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EB5CC-A6D1-43D2-A819-712B74A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93995-3345-47B8-831B-80CBBCDC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08905-C997-434E-BECF-F0D2EA0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6F63-A8EC-4201-9347-0FE7B28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382D3-1AB9-4583-9B9B-C7FC5B9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C48-FCEE-49E7-96DB-EFC4D71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3F28-92BE-418A-ADED-C265F5F7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A300-7960-49CD-BFE7-7AA9B887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4132-EAD0-43A1-B579-04294A0C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45E2-FA9B-4D9A-918E-AE5324F9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2FC0-2CD7-4876-93D5-2F7E99A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2E47-9A24-4B99-989C-40CD0E23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7CC2D-0BF8-410C-96B1-53FA3071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BE58B-6EE9-4131-B206-1881A504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F2D10-E38C-4D3F-BC10-9983266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E91E-2A97-4188-B64A-2722909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1C3-7244-4AB8-812A-A6D0A3E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1EDB3-B55A-4E9C-BC92-FE6BFB43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0D12B-AF99-4DFE-B0FD-E4ED0A7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96EA-3689-48BA-9690-C6CBC235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39DFE-6390-4E10-B433-64A9B198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AB92C-806B-448D-A237-728A6719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AA079-963A-4370-8FB7-8C08120A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936CB-527C-488B-B838-96FD4D0B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85B7-D0AE-47A3-9A3A-B706A223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40559-0989-4A0F-8C12-B870AE3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F1D66-A601-4B49-986F-280B0AA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876-EF82-4FEB-926A-E4D3C53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10FAA-2919-4D92-BE7E-4D503ADF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C3AEF-A2E4-409D-9462-8905029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926DA-1099-498E-9EE5-1D83E96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163F5-9B97-40EA-AFAB-837E814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5D006-0B3D-45B9-8E63-DE34CA2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875E9-9112-42B0-9B4E-D0507BED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7CEC2-D9E6-455B-9A6E-8BFA66AC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BB696-1E00-48F2-9FCD-CC321475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3EB3B-DB84-4029-A08A-51FDA6C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7BA72-1C7A-4F05-972B-B979B9A0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DB1B-156C-465B-B8D2-CAE76D7382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67B-73AA-4AA4-B18E-9D8BB3FCCC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4E8-7B28-4151-874E-BF48D1BC1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0124-A968-4E64-9C82-E0DA3036A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B677-E156-47EC-83B1-671A29BA3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11E-59E2-4D66-B4D9-F8C49F88E0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CB6E-E04F-4DB0-B044-6805410C0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194-D095-4812-9733-EC19A9CC9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05A-3873-467C-ADE4-1D0F3F9DF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D6AB-81B1-4CB7-9B2E-4A81C3CFC1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7748-0535-46F2-BAB6-1C2AD86DC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394F-7519-4C1C-A3CB-F8D2A7313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5E3-D464-4484-9228-D6282FB16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8DC-D58E-486C-BC6B-66D44317C1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A4B0-1BF7-4ADA-A8A8-1027DE250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7A09-29E2-45B1-9215-69E05B9CD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1FE7-7F7A-468F-8A2D-92594821B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6C4-7018-4956-B100-AB96E7EE01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BB1-1F30-4000-9E71-FDA4742FA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31A2-5FFD-45D3-AE05-5C50DC1EE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17C-664F-43D0-AD2E-7A07363A62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46B-BAAA-4D04-B70D-93635A887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27E1-E3B1-4AC2-8BB9-F6DB74F9F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285-6059-480C-A0AA-94602E7D9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8670-825C-46FD-8BE2-7C2E09BDE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85AA-5819-4BDE-BDDB-F96113E56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433-4738-48D0-A0B8-3426F31877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8C2-C07A-4A58-B56C-14C4205CD8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596D-5AD9-414C-A071-2C1E645A2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81B-14FF-4C38-85D2-D7BAEDE82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F2D-CA42-4DD9-A294-95C0D4EF61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459-05AE-4C71-AF83-90A9DE127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3AD-C2BB-4E48-AF81-2AAD374DB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C704-64F8-4D66-BCBB-5CB6619DD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BAF-CAB1-4055-95E7-FFB0C8418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7A65-1299-426C-A791-BB7D415B5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736-0CD3-4B9C-82CE-1FE566393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A4FA-EFFE-48A5-A5AA-C370282BB6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BB96-7174-4864-A81A-9C9CAAA77A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077B-FBE4-4BE0-8391-53DD8F8FB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52720" y="1844640"/>
            <a:ext cx="5038560" cy="12477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90600" y="3279600"/>
            <a:ext cx="6562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1104840" y="981000"/>
            <a:ext cx="6934320" cy="212400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69634" descr=""/>
          <p:cNvPicPr/>
          <p:nvPr/>
        </p:nvPicPr>
        <p:blipFill>
          <a:blip r:embed="rId2"/>
          <a:stretch/>
        </p:blipFill>
        <p:spPr>
          <a:xfrm>
            <a:off x="162000" y="3422520"/>
            <a:ext cx="8820000" cy="2238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643280" y="1254240"/>
            <a:ext cx="576360" cy="734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365960" y="1268280"/>
            <a:ext cx="576360" cy="7351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427640" y="2133720"/>
            <a:ext cx="576000" cy="7347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7553160" y="227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1677960" y="3860640"/>
            <a:ext cx="87804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5003640" y="3759120"/>
            <a:ext cx="87804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8028000" y="3789360"/>
            <a:ext cx="87804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0"/>
          <a:stretch/>
        </p:blipFill>
        <p:spPr>
          <a:xfrm>
            <a:off x="1849320" y="4724280"/>
            <a:ext cx="87804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1"/>
          <a:stretch/>
        </p:blipFill>
        <p:spPr>
          <a:xfrm>
            <a:off x="5364000" y="4653000"/>
            <a:ext cx="87804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2"/>
          <a:stretch/>
        </p:blipFill>
        <p:spPr>
          <a:xfrm>
            <a:off x="8180280" y="4653000"/>
            <a:ext cx="8780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19240" y="809640"/>
            <a:ext cx="8705520" cy="5715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203640" y="5373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42960" y="1557360"/>
            <a:ext cx="7858080" cy="3743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299880" y="880920"/>
            <a:ext cx="85442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7352" descr=""/>
          <p:cNvPicPr/>
          <p:nvPr/>
        </p:nvPicPr>
        <p:blipFill>
          <a:blip r:embed="rId1"/>
          <a:stretch/>
        </p:blipFill>
        <p:spPr>
          <a:xfrm>
            <a:off x="609480" y="890640"/>
            <a:ext cx="7925040" cy="5562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971640" y="1498680"/>
            <a:ext cx="7488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7488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71640" y="3948120"/>
            <a:ext cx="74880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898560" y="4581360"/>
            <a:ext cx="7488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1042920" y="5172120"/>
            <a:ext cx="748836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1042920" y="5776920"/>
            <a:ext cx="7488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276120" y="708120"/>
            <a:ext cx="8591760" cy="6105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916360" y="604980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443640" y="5243400"/>
            <a:ext cx="144144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2700360" y="3500280"/>
            <a:ext cx="144144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4356000" y="3500280"/>
            <a:ext cx="144144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6156360" y="3500280"/>
            <a:ext cx="180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200160" y="789120"/>
            <a:ext cx="8743680" cy="5952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763640" y="450864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332000" y="5084640"/>
            <a:ext cx="4392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116000" y="5661000"/>
            <a:ext cx="525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042920" y="6208560"/>
            <a:ext cx="52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614520" y="1962000"/>
            <a:ext cx="7914960" cy="293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468000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380376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84360" y="4379760"/>
            <a:ext cx="784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858080" cy="3714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755640" y="280980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6048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55640" y="3975120"/>
            <a:ext cx="6048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84360" y="4522680"/>
            <a:ext cx="820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5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